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E8E0-A997-46F0-BE58-E567E5D2E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32A6-27B5-4A86-9B39-DE2E778F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12CE-5346-4AD2-BB68-63008AC50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60DC-0819-4A30-B624-5430E028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2451-35E4-4A6B-A96E-3B6040653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3910-D215-4D10-B780-70BCBB87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0F86-31C6-411E-B54E-03DA63EF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C867-2C6F-4BBC-8729-4AAA6131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925C-7118-49C4-9AEB-F1905234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D682-2962-4675-BD9F-8C386DF3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D5D4-997D-4AC0-951C-03E4E097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A55C-9979-4AA7-ACE2-C13AB993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D27C-37AE-48FD-B2AC-A25C757E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3294-2B2F-4F84-A4C5-E3A4AF1E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DA4A-B43E-4992-A2D9-9C1B109D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82D1-7CA5-4143-9F3B-DB29F2BE4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4360-15FC-4D31-A345-F371D990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C972F-5014-474F-B003-C3C9B2443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E1574-85BD-4877-94C6-61C02478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3E4CB-6F51-4A20-A309-AB793FCC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33A6D-AB96-44CA-A8F3-0018F9DD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ACFC0-2207-4732-93F6-4147734C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E35F-66DB-465B-B46C-3EC27428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CCF73-DEB5-415B-91B0-30948FB4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DA170-C289-487E-A3B4-B53A3495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4ED83-D2CF-4109-8589-402FBA23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7E54F-12F7-4578-A3BD-960C8A6C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18B0F-592B-41ED-B0FE-A1310B39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A59D4-7EC6-4965-982B-DC688E87B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864E5-772B-485C-92CA-97DEF0AE5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72A20-B235-4A98-A49C-2BF1CB4FD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94D70-9D7F-4B9D-B526-22309826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9ECBB-E3E2-4425-866B-2EBADA23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8829-26B6-4520-A206-75E3A916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CEB54-97FC-455B-B810-D616F294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683EB-AFCE-4028-8770-EE90CE65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8C5FC-374A-45EF-BFF1-13FB4D0B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82FBF-38AF-46CA-B09B-990C7C8D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82A12-62D3-4736-B091-1E4C0058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F592D-B424-4840-999F-232202AE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46E87-5F66-40E3-A58A-B0CE2059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B8703-0853-47E9-90DA-30B3E3C7F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71763-B9C7-47E3-BBAE-9E0BA24C1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4DB7F-AEEC-4C05-94EA-36439AECD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DC14-1895-4EA7-A5E6-C9D71158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BBBF3-810D-427D-80D7-5283A89E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838FC-3777-441C-97FA-B67F965F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B6502-E679-4ACC-A869-7583BA3D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92907-0E52-440E-B48F-B980A76C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8AC59-73F2-43EF-9D37-6DB94059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BA96C-6DD8-4300-B187-7CA43253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A8B61-6DFF-44F8-9C4B-313CF675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350AD-E762-4429-8506-3C39F54F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6E1EB-746C-4C38-A837-39B6583B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60997-3844-4D9C-9222-0CE4AA77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3E97-2213-433A-ACA7-8A9DCB94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89028-6AD2-46AC-8FFE-930CEAEC0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DD474-E200-4A12-9F71-B4DB38FE3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0DF11-7C30-430A-BF75-4DDACBA1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FF621-CDBB-4CFD-941F-F814B598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DB3D2-71A6-40CF-9106-D0C0618D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FD8E1-699E-4D0E-8187-D0151E91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35934-A163-47B9-AECC-0E003C7A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66E95-B580-4180-9424-30BBE3E8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329C5-92D6-431D-8366-7DFE307A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FA496-241D-4F8E-ADFE-2FC21A21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D385-A984-49E8-9600-12ACC634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5EF09-1D0B-4E21-9A57-7B7142DD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4C681-C401-4E3B-BCF2-DF806FF8E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DD944-0BAE-44E9-8A79-AED4D1136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71D10-F61E-4BB0-8C6F-1083F092C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8D2C6-8395-4061-B698-CCE63C7A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EB503-98D7-42DA-BF51-118613C5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A702C-1984-49C8-BB86-88D7FD14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24DED-7C5F-4C0B-93DB-9F2A2A22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70AC1-459E-486B-849A-373E538F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6E721-BF3C-4F0E-9EC8-07E1C7D2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DDDC-C771-4707-8DB1-54569366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9522E-0C4C-4255-B5F1-C944F70E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84CB6-8C81-426E-86AB-26BB2F4E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160D0-20A2-4D33-88EA-C49E563B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FAFAF-078B-4CFA-835E-E6E711D56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544A6-EEF3-4935-BE79-3BAF3BD23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C0CF-BB59-4365-AB12-395EE4A8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e7ebf5">
              <a:alpha val="33000"/>
            </a:srgbClr>
          </a:solidFill>
          <a:ln cap="rnd" w="3240">
            <a:solidFill>
              <a:srgbClr val="044c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b1c3f0"/>
            </a:solidFill>
            <a:miter/>
          </a:ln>
          <a:effectLst>
            <a:outerShdw dist="12600" dir="5400000" blurRad="0" rotWithShape="0">
              <a:srgbClr val="144485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9639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9639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f811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24198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2419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24198"/>
                </a:solidFill>
                <a:latin typeface="Gill Sans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56F8-A9CE-4EA7-A247-C8C3ACD49739}" type="slidenum">
              <a:rPr b="0" lang="en-US" sz="1200" spc="-1" strike="noStrike">
                <a:solidFill>
                  <a:srgbClr val="02419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142b4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e7ebf5">
              <a:alpha val="33000"/>
            </a:srgbClr>
          </a:solidFill>
          <a:ln cap="rnd" w="3240">
            <a:solidFill>
              <a:srgbClr val="044c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b1c3f0"/>
            </a:solidFill>
            <a:miter/>
          </a:ln>
          <a:effectLst>
            <a:outerShdw dist="12600" dir="5400000" blurRad="0" rotWithShape="0">
              <a:srgbClr val="144485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142b4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1568a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9639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9639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f811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24198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2419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24198"/>
                </a:solidFill>
                <a:latin typeface="Gill Sans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DBA7-30D8-4FF3-9491-905AA1CED7C7}" type="slidenum">
              <a:rPr b="0" lang="en-US" sz="1200" spc="-1" strike="noStrike">
                <a:solidFill>
                  <a:srgbClr val="02419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142b4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1568a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9639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9639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f811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24198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2419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24198"/>
                </a:solidFill>
                <a:latin typeface="Gill Sans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0AA3-13C6-45AE-88DF-C385D45CD244}" type="slidenum">
              <a:rPr b="0" lang="en-US" sz="1200" spc="-1" strike="noStrike">
                <a:solidFill>
                  <a:srgbClr val="02419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9639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9639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f811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24198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2419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24198"/>
                </a:solidFill>
                <a:latin typeface="Gill Sans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FBB6-EC8D-44CE-983B-336CCDBC0C34}" type="slidenum">
              <a:rPr b="0" lang="en-US" sz="1200" spc="-1" strike="noStrike">
                <a:solidFill>
                  <a:srgbClr val="02419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142b4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9639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9639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f811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24198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2419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24198"/>
                </a:solidFill>
                <a:latin typeface="Gill Sans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8807-8C35-4691-90DD-12E7DAC5E621}" type="slidenum">
              <a:rPr b="0" lang="en-US" sz="1200" spc="-1" strike="noStrike">
                <a:solidFill>
                  <a:srgbClr val="02419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9639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9639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f811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24198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2419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24198"/>
                </a:solidFill>
                <a:latin typeface="Gill Sans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1B74-7348-4DB7-889C-2AA284C588A4}" type="slidenum">
              <a:rPr b="0" lang="en-US" sz="1200" spc="-1" strike="noStrike">
                <a:solidFill>
                  <a:srgbClr val="02419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0656c6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39639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9639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9639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f811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24198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2419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24198"/>
                </a:solidFill>
                <a:latin typeface="Gill Sans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420F-FBBB-406F-83F3-57C21380E484}" type="slidenum">
              <a:rPr b="0" lang="en-US" sz="1200" spc="-1" strike="noStrike">
                <a:solidFill>
                  <a:srgbClr val="02419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Grindstone Elementary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pic>
        <p:nvPicPr>
          <p:cNvPr id="319" name="Picture 4" descr="Picture-1.png"/>
          <p:cNvPicPr/>
          <p:nvPr/>
        </p:nvPicPr>
        <p:blipFill>
          <a:blip r:embed="rId2"/>
          <a:stretch/>
        </p:blipFill>
        <p:spPr>
          <a:xfrm>
            <a:off x="1676520" y="1311120"/>
            <a:ext cx="7162560" cy="55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Gill Sans MT"/>
              </a:rPr>
              <a:t>Overall First Floor Corridor Plan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pic>
        <p:nvPicPr>
          <p:cNvPr id="321" name="Picture 7" descr="Picture-2.png"/>
          <p:cNvPicPr/>
          <p:nvPr/>
        </p:nvPicPr>
        <p:blipFill>
          <a:blip r:embed="rId2"/>
          <a:stretch/>
        </p:blipFill>
        <p:spPr>
          <a:xfrm>
            <a:off x="1523880" y="1322280"/>
            <a:ext cx="716292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Gill Sans MT"/>
              </a:rPr>
              <a:t>Corridor Plan Area 1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pic>
        <p:nvPicPr>
          <p:cNvPr id="323" name="Picture 3" descr="G:\Arch\2008219\01\Interiors\Picture-3.png"/>
          <p:cNvPicPr/>
          <p:nvPr/>
        </p:nvPicPr>
        <p:blipFill>
          <a:blip r:embed="rId2"/>
          <a:stretch/>
        </p:blipFill>
        <p:spPr>
          <a:xfrm>
            <a:off x="1523880" y="1219320"/>
            <a:ext cx="7283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Gill Sans MT"/>
              </a:rPr>
              <a:t>Corridor Plan Area 2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pic>
        <p:nvPicPr>
          <p:cNvPr id="325" name="Picture 4" descr="Picture-4.png"/>
          <p:cNvPicPr/>
          <p:nvPr/>
        </p:nvPicPr>
        <p:blipFill>
          <a:blip r:embed="rId2"/>
          <a:stretch/>
        </p:blipFill>
        <p:spPr>
          <a:xfrm>
            <a:off x="1447920" y="1077840"/>
            <a:ext cx="746748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6" descr="Berea_classroom1.jpg"/>
          <p:cNvPicPr/>
          <p:nvPr/>
        </p:nvPicPr>
        <p:blipFill>
          <a:blip r:embed="rId2"/>
          <a:stretch/>
        </p:blipFill>
        <p:spPr>
          <a:xfrm>
            <a:off x="1639800" y="1352520"/>
            <a:ext cx="6632640" cy="470052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Gill Sans MT"/>
              </a:rPr>
              <a:t>Typical Classroom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Gill Sans MT"/>
              </a:rPr>
              <a:t>Typical Classroom with furniture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pic>
        <p:nvPicPr>
          <p:cNvPr id="329" name="Picture 6" descr="Picture1.png"/>
          <p:cNvPicPr/>
          <p:nvPr/>
        </p:nvPicPr>
        <p:blipFill>
          <a:blip r:embed="rId2"/>
          <a:stretch/>
        </p:blipFill>
        <p:spPr>
          <a:xfrm>
            <a:off x="2057400" y="1219320"/>
            <a:ext cx="609588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Gill Sans MT"/>
              </a:rPr>
              <a:t>Corridor Elevation Options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pic>
        <p:nvPicPr>
          <p:cNvPr id="331" name="Picture 3" descr="Picture-5.png"/>
          <p:cNvPicPr/>
          <p:nvPr/>
        </p:nvPicPr>
        <p:blipFill>
          <a:blip r:embed="rId2"/>
          <a:stretch/>
        </p:blipFill>
        <p:spPr>
          <a:xfrm>
            <a:off x="1371600" y="1146240"/>
            <a:ext cx="739152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3" descr="Picture-6.png"/>
          <p:cNvPicPr/>
          <p:nvPr/>
        </p:nvPicPr>
        <p:blipFill>
          <a:blip r:embed="rId2"/>
          <a:stretch/>
        </p:blipFill>
        <p:spPr>
          <a:xfrm>
            <a:off x="1676520" y="1066680"/>
            <a:ext cx="7162560" cy="554364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Gill Sans MT"/>
              </a:rPr>
              <a:t>Gymnasium Elevation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3" descr="Picture-7.png"/>
          <p:cNvPicPr/>
          <p:nvPr/>
        </p:nvPicPr>
        <p:blipFill>
          <a:blip r:embed="rId2"/>
          <a:stretch/>
        </p:blipFill>
        <p:spPr>
          <a:xfrm>
            <a:off x="1600200" y="914400"/>
            <a:ext cx="7000920" cy="541008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Gill Sans MT"/>
              </a:rPr>
              <a:t>Cafeteria / Stage Elevation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5:56:14Z</dcterms:created>
  <dc:creator>Cindy Sakotas</dc:creator>
  <dc:description/>
  <dc:language>en-US</dc:language>
  <cp:lastModifiedBy>Administrator</cp:lastModifiedBy>
  <dcterms:modified xsi:type="dcterms:W3CDTF">2010-03-11T12:42:07Z</dcterms:modified>
  <cp:revision>16</cp:revision>
  <dc:subject/>
  <dc:title>Grindstone Elementary</dc:title>
</cp:coreProperties>
</file>